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4CB-42D5-46FE-86DD-BC3A8145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6BF-0B01-47CB-9370-E7F4EB5D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B63-B04A-408A-A544-E8C0B80C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468-A630-4701-8E45-AA1A9E04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E83-F0B1-4525-B418-02C59727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7CA-B2D7-49FA-91AC-FF27F6B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F17-0D5A-4293-86B3-47FA0C4B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C99-BDF4-4BA0-A537-85D58BB7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407-5AF2-4C9B-9E53-AEDD05D5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663-37AE-4299-9997-9FF878E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242-85B2-4412-A75C-8FF7F0C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150-0784-43A7-B057-87C13AD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2D7C-5E28-465C-BE3C-92E4B9942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9 Deň čo d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stále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stále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pre teba len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áchrana 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á, istá, i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stále hľa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z lásky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mieral sám Syn Bož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sám, tak sám, tak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láskavý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hriešnika č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í, teší, teš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za teba náš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svoju svät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lial, vylial, vy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0:30Z</dcterms:modified>
  <cp:revision>32</cp:revision>
  <dc:subject/>
  <dc:title>Je veľký náš Pán, on slávy je Kráľ Nech do všetkých strán  spev vrúcnych znie chvál.</dc:title>
</cp:coreProperties>
</file>